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BE9-221A-4D09-8C72-320320BC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501-C452-4D8E-AA0A-F5AE9AD4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4B9-38BE-49D2-AE39-ABFED4B2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9F8-7110-4F8B-A978-32F9814E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D1B-EB36-48E2-9D6F-0A50AD89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FC41-56EF-4612-BEFE-2589639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56F2-FA24-4702-B925-50143ECD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0727-E377-4137-9300-37A35C1A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0A15-709E-4024-BA72-C0145FCF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CA79-6661-4CA6-9C48-76B59D06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9B2-12A5-4A78-A8FA-9BF8085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6FB-4F69-41D0-82C4-204542C9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8619-DCC1-47CD-8190-394F1FC1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807-817F-48E3-84B5-EBD8A2F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8FE9-96AD-4D7B-98F2-425AD201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3947-86CE-4CDD-AEC9-257C9AEC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07BB-3F47-4BF6-A87B-70E3CC7B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D31-578C-4D3C-9129-EBA32BF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C3F-C39C-4A5B-AE3C-88654FA2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095-F333-4197-B9F1-8976FB44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552-992B-4BFC-BE93-454F880D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2DA-CEF7-4AA4-93FF-C7A42832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6BF-3276-4C6F-B42E-FA1DF9B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336-A522-4C9C-984C-FF74B6D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0310-FC5D-4522-A0A9-3A191F4BDD3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F987-0737-47DC-AA3F-6F849F38FCD5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Dec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NAB Part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-do the questions in NAB Part 1 that you need 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ue in on Wednesday 16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Decembe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all aspects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del Performer 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age of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preparation for the NAB Part 2 re-sit which you will complet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DER EXAM COND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 Monday 11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January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dentify questions that need to be rep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o over NAB ques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 part 1 and 2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expected i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r answ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0360" y="4611600"/>
            <a:ext cx="320364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a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escribe the methods you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Observation sched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Video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Knowledge Of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bservation Schedu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Opening sent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o filled it ou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ere you playing a gam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as it in the form of a 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id it have head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id it have set criteri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raw an example of what the schedule looked lik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What did the observer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Give examples of the info the O record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ideo Analysi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Used a video recor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o was able to watch your performanc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does this benefi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ere you playing a gam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are you able to do when watching a video of yourself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Used in conjunction with schedu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s the info recorded accura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xplain why these methods are appropriate. (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ermanent record – how does having a permanent record benefit yo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Compare to a model performer (give examp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Valid and reliable ( see work bookl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Sport specif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 a result of analysing your data give a detailed explanation of your strengths and weakn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ain general (whole performance) and specific (skill/ technique) strengths and weakne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Comic Sans MS"/>
              </a:rPr>
              <a:t>Consideration of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strengths did you identify and how did this affect your whole game performance? EXAMPLES!!!!!!!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peat for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peat this for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Comic Sans MS"/>
              </a:rPr>
              <a:t>movement analysi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focusing on one specific skill –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Overhead Clear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s a result of analysing your data give a detailed explanation of your development needs. 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in weakness – Name skill (overhead clear). Your development needs are within this i.e. what are your weaknesses within the overhead cl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OVEMENT ANALYSIS SCHEDU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are you not doing well and how is it affecting your overhead cle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09-12-11T11:14:00Z</dcterms:modified>
  <cp:revision>54</cp:revision>
  <dc:subject/>
  <dc:title>Slide 1</dc:title>
</cp:coreProperties>
</file>